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92720"/>
            <a:ext cx="7772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9272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39272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39272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555640" y="609120"/>
            <a:ext cx="590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92720"/>
            <a:ext cx="7772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26920" y="765000"/>
            <a:ext cx="1584360" cy="9907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55640" y="40464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FetteFraktur"/>
                <a:ea typeface="바탕"/>
              </a:rPr>
              <a:t>Propag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140000" cy="558972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643280" y="189000"/>
            <a:ext cx="4500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916360" y="54936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 of Nazi Po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2183040" cy="1557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295280" y="3505320"/>
            <a:ext cx="1751040" cy="2438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886200" y="3581280"/>
            <a:ext cx="1724040" cy="2438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235560" y="3429000"/>
            <a:ext cx="1746360" cy="2514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6289560" y="1143000"/>
            <a:ext cx="1409760" cy="2066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4140360" y="1413000"/>
            <a:ext cx="142236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3816360" cy="5545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788000" y="333360"/>
            <a:ext cx="36716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3600360" cy="5615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716360" y="620640"/>
            <a:ext cx="388944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82640" y="647280"/>
            <a:ext cx="58496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d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32004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1600200"/>
            <a:ext cx="461952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heap radios were produced:  “Volksempfänger” ("People's receive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olksemp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ä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ger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uld not pick up foreign broadca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etween 1932-39, Radio ownership rose from 25% to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adio wardens reported on  people’s reactions to specific broadca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57200" y="1989000"/>
            <a:ext cx="3233880" cy="4137120"/>
            <a:chOff x="457200" y="1989000"/>
            <a:chExt cx="3233880" cy="41371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457200" y="1989000"/>
              <a:ext cx="3233880" cy="413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 txBox="1"/>
            <p:nvPr/>
          </p:nvSpPr>
          <p:spPr>
            <a:xfrm>
              <a:off x="457200" y="1989000"/>
              <a:ext cx="3233880" cy="413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5238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azi Cin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95280" y="2421000"/>
            <a:ext cx="4248000" cy="3213000"/>
            <a:chOff x="395280" y="2421000"/>
            <a:chExt cx="4248000" cy="321300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395280" y="2421000"/>
              <a:ext cx="4248000" cy="32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 txBox="1"/>
            <p:nvPr/>
          </p:nvSpPr>
          <p:spPr>
            <a:xfrm>
              <a:off x="395280" y="2421000"/>
              <a:ext cx="4248000" cy="321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59280" y="1700280"/>
            <a:ext cx="41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owed Hitler + Nazi ideology in a positive ligh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ilms created to entertain, using Nazi approved stor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ilm visits quadrupled between 1933 and 194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zis showed newsreels before start of feature fil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6324480" cy="5062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33680" y="5670720"/>
            <a:ext cx="747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934 –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Triumph of the Will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lm that chronicles Nazi rall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de by Leni Riefensta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wspap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933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re were 4,700 daily newspaper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3% of those controlled by NSD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944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997 daily newspaper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82% controlled by NSD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716360" y="1700280"/>
            <a:ext cx="3692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65440" y="647280"/>
            <a:ext cx="4867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ensorshi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658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0 May 1933: largest book burning in Berl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ids on public and privat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oks burned were Jewish, socialist or pacifist by na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724360" y="2060640"/>
            <a:ext cx="3251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911320" y="647280"/>
            <a:ext cx="47023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sorsh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sorship prevents people from hearing anyone else’s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you think censorship exists in today’s worl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2751120" y="5029200"/>
            <a:ext cx="402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In 2002, China banne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search engine Goog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Can you think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sorsh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oebbels aimed to ensure nobody could read/see anything that was hostile/damaging to Nazi pa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 worked with SS &amp; Gestapo to achieve this ai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Verdana"/>
              </a:rPr>
              <a:t>What part did the Gestapo/SS have to play in censorship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6000" y="6922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Nazi Propag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54770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19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ow did Hitler keep control of German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132000" y="1413000"/>
            <a:ext cx="2895480" cy="1904760"/>
            <a:chOff x="3132000" y="1413000"/>
            <a:chExt cx="2895480" cy="1904760"/>
          </a:xfrm>
        </p:grpSpPr>
        <p:sp>
          <p:nvSpPr>
            <p:cNvPr id="111" name=""/>
            <p:cNvSpPr/>
            <p:nvPr/>
          </p:nvSpPr>
          <p:spPr>
            <a:xfrm>
              <a:off x="3132000" y="1413000"/>
              <a:ext cx="2895480" cy="1904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89200" y="1793880"/>
              <a:ext cx="190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Keeping Control of Germ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52280" y="4876920"/>
            <a:ext cx="274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veryone was scared of being arrested by the Gestapo and being put in a concentration cam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56386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tler Youth &amp; the Young Maide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364000" y="1268280"/>
            <a:ext cx="3166920" cy="1048680"/>
            <a:chOff x="5364000" y="1268280"/>
            <a:chExt cx="3166920" cy="1048680"/>
          </a:xfrm>
        </p:grpSpPr>
        <p:sp>
          <p:nvSpPr>
            <p:cNvPr id="116" name=""/>
            <p:cNvSpPr/>
            <p:nvPr/>
          </p:nvSpPr>
          <p:spPr>
            <a:xfrm flipV="1">
              <a:off x="5364000" y="1544040"/>
              <a:ext cx="1281960" cy="77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721200" y="1268280"/>
              <a:ext cx="1809720" cy="607680"/>
              <a:chOff x="6721200" y="1268280"/>
              <a:chExt cx="1809720" cy="607680"/>
            </a:xfrm>
          </p:grpSpPr>
          <p:sp>
            <p:nvSpPr>
              <p:cNvPr id="118" name=""/>
              <p:cNvSpPr/>
              <p:nvPr/>
            </p:nvSpPr>
            <p:spPr>
              <a:xfrm>
                <a:off x="6721200" y="1268280"/>
                <a:ext cx="180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Propagand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25880" y="1544400"/>
                <a:ext cx="0" cy="3315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6227640" y="1916280"/>
            <a:ext cx="2590560" cy="1066680"/>
            <a:chOff x="6227640" y="1916280"/>
            <a:chExt cx="2590560" cy="1066680"/>
          </a:xfrm>
        </p:grpSpPr>
        <p:sp>
          <p:nvSpPr>
            <p:cNvPr id="121" name=""/>
            <p:cNvSpPr/>
            <p:nvPr/>
          </p:nvSpPr>
          <p:spPr>
            <a:xfrm>
              <a:off x="6227640" y="1916280"/>
              <a:ext cx="259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ass Rallies, Posters and Propaganda film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46600" y="260208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227640" y="2997360"/>
            <a:ext cx="2590560" cy="1371600"/>
            <a:chOff x="6227640" y="2997360"/>
            <a:chExt cx="2590560" cy="1371600"/>
          </a:xfrm>
        </p:grpSpPr>
        <p:sp>
          <p:nvSpPr>
            <p:cNvPr id="124" name=""/>
            <p:cNvSpPr/>
            <p:nvPr/>
          </p:nvSpPr>
          <p:spPr>
            <a:xfrm>
              <a:off x="6227640" y="2997360"/>
              <a:ext cx="2590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e Nazis controlled and censored the radio &amp; newspaper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46600" y="391176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227640" y="4365720"/>
            <a:ext cx="2590560" cy="1371600"/>
            <a:chOff x="6227640" y="4365720"/>
            <a:chExt cx="2590560" cy="1371600"/>
          </a:xfrm>
        </p:grpSpPr>
        <p:sp>
          <p:nvSpPr>
            <p:cNvPr id="127" name=""/>
            <p:cNvSpPr/>
            <p:nvPr/>
          </p:nvSpPr>
          <p:spPr>
            <a:xfrm>
              <a:off x="6227640" y="4365720"/>
              <a:ext cx="2590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chool children were indoctrinated with Nazi ideas at school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46600" y="5356080"/>
              <a:ext cx="0" cy="381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95280" y="1413000"/>
            <a:ext cx="3312360" cy="1223280"/>
            <a:chOff x="395280" y="1413000"/>
            <a:chExt cx="3312360" cy="1223280"/>
          </a:xfrm>
        </p:grpSpPr>
        <p:sp>
          <p:nvSpPr>
            <p:cNvPr id="130" name=""/>
            <p:cNvSpPr/>
            <p:nvPr/>
          </p:nvSpPr>
          <p:spPr>
            <a:xfrm flipH="1" flipV="1">
              <a:off x="2728800" y="1734480"/>
              <a:ext cx="978840" cy="90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395280" y="1413000"/>
              <a:ext cx="2409480" cy="643680"/>
              <a:chOff x="395280" y="1413000"/>
              <a:chExt cx="2409480" cy="643680"/>
            </a:xfrm>
          </p:grpSpPr>
          <p:sp>
            <p:nvSpPr>
              <p:cNvPr id="132" name=""/>
              <p:cNvSpPr/>
              <p:nvPr/>
            </p:nvSpPr>
            <p:spPr>
              <a:xfrm>
                <a:off x="395280" y="1413000"/>
                <a:ext cx="24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he Terror St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524600" y="1799280"/>
                <a:ext cx="0" cy="2574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" name=""/>
          <p:cNvGrpSpPr/>
          <p:nvPr/>
        </p:nvGrpSpPr>
        <p:grpSpPr>
          <a:xfrm>
            <a:off x="250920" y="2060640"/>
            <a:ext cx="2590560" cy="1675800"/>
            <a:chOff x="250920" y="2060640"/>
            <a:chExt cx="2590560" cy="1675800"/>
          </a:xfrm>
        </p:grpSpPr>
        <p:sp>
          <p:nvSpPr>
            <p:cNvPr id="135" name=""/>
            <p:cNvSpPr/>
            <p:nvPr/>
          </p:nvSpPr>
          <p:spPr>
            <a:xfrm>
              <a:off x="250920" y="2060640"/>
              <a:ext cx="25905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ecret police (Gestapo) would spy on and arrest enemies of the st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45840" y="3355920"/>
              <a:ext cx="0" cy="380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3581280"/>
            <a:ext cx="2514600" cy="1371600"/>
            <a:chOff x="228600" y="3581280"/>
            <a:chExt cx="2514600" cy="1371600"/>
          </a:xfrm>
        </p:grpSpPr>
        <p:sp>
          <p:nvSpPr>
            <p:cNvPr id="138" name=""/>
            <p:cNvSpPr/>
            <p:nvPr/>
          </p:nvSpPr>
          <p:spPr>
            <a:xfrm>
              <a:off x="228600" y="3581280"/>
              <a:ext cx="2514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S were responsible for running the concentration camp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3880" y="449568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564000" y="3141720"/>
            <a:ext cx="1828800" cy="990720"/>
            <a:chOff x="3564000" y="3141720"/>
            <a:chExt cx="1828800" cy="990720"/>
          </a:xfrm>
        </p:grpSpPr>
        <p:sp>
          <p:nvSpPr>
            <p:cNvPr id="141" name=""/>
            <p:cNvSpPr/>
            <p:nvPr/>
          </p:nvSpPr>
          <p:spPr>
            <a:xfrm>
              <a:off x="4478400" y="31417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64000" y="344664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opular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78400" y="382752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708360" y="6093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ing Jo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64000" y="4941720"/>
            <a:ext cx="2361960" cy="1008720"/>
            <a:chOff x="3564000" y="4941720"/>
            <a:chExt cx="2361960" cy="1008720"/>
          </a:xfrm>
        </p:grpSpPr>
        <p:sp>
          <p:nvSpPr>
            <p:cNvPr id="146" name=""/>
            <p:cNvSpPr/>
            <p:nvPr/>
          </p:nvSpPr>
          <p:spPr>
            <a:xfrm>
              <a:off x="3564000" y="4941720"/>
              <a:ext cx="2361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Using scapegoats to take blame for problem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82960" y="555120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419640" y="4076640"/>
            <a:ext cx="2361960" cy="990720"/>
            <a:chOff x="3419640" y="4076640"/>
            <a:chExt cx="2361960" cy="990720"/>
          </a:xfrm>
        </p:grpSpPr>
        <p:sp>
          <p:nvSpPr>
            <p:cNvPr id="149" name=""/>
            <p:cNvSpPr/>
            <p:nvPr/>
          </p:nvSpPr>
          <p:spPr>
            <a:xfrm>
              <a:off x="3419640" y="4076640"/>
              <a:ext cx="2361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ipping up the Treaty of Versaill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38600" y="468648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pag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aganda is the use of the media to promote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oint of vie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aganda is 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brainwashing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ublic, convincing them of an 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ideologic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viewpoi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286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oebb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ister of Public Enlighte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ponsible for running the Nazi Propagand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sked with ensuring views of Nazi party wer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ersuas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32280" y="1981080"/>
            <a:ext cx="344160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oebb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Goebbels perfected the "Big Lie" technique: a lie, if audacious enough and repeated enough times, will be believed by the m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o you think that this technique is still used today? Why, where, by whom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572000" y="1916280"/>
            <a:ext cx="4284720" cy="4055760"/>
            <a:chOff x="4572000" y="1916280"/>
            <a:chExt cx="4284720" cy="405576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4572000" y="1916280"/>
              <a:ext cx="4284720" cy="40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 txBox="1"/>
            <p:nvPr/>
          </p:nvSpPr>
          <p:spPr>
            <a:xfrm>
              <a:off x="4572000" y="1916280"/>
              <a:ext cx="4284720" cy="4055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9640" y="8366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ote tak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35640" y="3357720"/>
            <a:ext cx="3241800" cy="1366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azi propaganda and censorshi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2276640"/>
            <a:ext cx="403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 you look at this Powerpoint, add notes to a      mind-map about aspects of Nazi propaganda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7020000" y="2781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5292360" y="2565000"/>
            <a:ext cx="8636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172360" y="2420640"/>
            <a:ext cx="57636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579640" y="4508640"/>
            <a:ext cx="3603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885080" y="4653000"/>
            <a:ext cx="504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43640" y="184464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adio; receiver; Hitler’s spee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77080" y="472428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00360" y="4005360"/>
            <a:ext cx="9349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zi Propag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Post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adi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Fil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Newspap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ensorshi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current the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Goebbel’s influe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633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azi Propagand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mes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ti-Semitism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nti-Jew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litarism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uniforms; arm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ationalism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pride in German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upremacy of Aryan r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ult of the Fuhrer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Hitler focal point of nation; god-like figur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ditional German </a:t>
            </a: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‘Volks’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cultur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s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ters - cheap &amp; easy to distrib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ced in prominent pos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tant reminder of Nazi ide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31276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nweringhdoulisi</cp:lastModifiedBy>
  <dcterms:modified xsi:type="dcterms:W3CDTF">2009-05-05T05:47:01Z</dcterms:modified>
  <cp:revision>28</cp:revision>
  <dc:subject/>
  <dc:title>PowerPoint Presentation</dc:title>
</cp:coreProperties>
</file>